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359D-DA2A-430B-8E34-F7837A0B20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007A6-51C7-4EBE-BA4D-D58728E54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20BA-0AB2-4890-9558-4BC0AEF38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D6276-8430-4246-A67C-9898060E9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FD920-59B0-4188-B73D-1521AD95C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1852-36B3-43DE-80B0-3C3DFC91D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D03C0-7EE9-4BBD-B622-9F677B8EB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6706-8F4D-4E80-ADCB-6A481E3B8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97A1D-0591-4C46-B03B-66354708C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49FDD-8B22-4C09-A313-9BE42363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11BA-C36E-4ADF-B4F7-EBA4E4445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1D6A0-50F5-47D9-935E-37C14F71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5CED4-7405-4D70-9FE9-414016CBA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6T20:02:39Z</dcterms:created>
  <dc:creator>Edward Loper</dc:creator>
  <dc:description/>
  <dc:language>en-US</dc:language>
  <cp:lastModifiedBy>Edward Loper</cp:lastModifiedBy>
  <dcterms:modified xsi:type="dcterms:W3CDTF">2007-02-28T19:19:13Z</dcterms:modified>
  <cp:revision>123</cp:revision>
  <dc:subject/>
  <dc:title>sdf</dc:title>
</cp:coreProperties>
</file>